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66C-9349-410E-951A-C98C4FD4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A9E-FA08-4F5B-8DE7-BEDDFE08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59E-3152-4C35-B23F-DC1F7D74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B59-976C-46A4-89CA-A07E9982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3E1-8351-4BF7-8BBE-447EFAC1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EB5-8956-47C8-8AAC-EB413C91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DD1-B251-4454-8B07-8C9BF5F0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514-07AD-4BDD-BFE4-165B7DF4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6DC-2D34-405F-99CA-E22A5549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5AB-C036-478F-9D85-3E7AE43F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D598-D47F-4095-8FDD-2E034F82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2BDB-7A22-4E51-8BC1-12BADF23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69AA-0285-45AC-985B-1733E4976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4-1  Models of the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62120" y="1447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hr – came up with the energy levels where the electr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219320" y="2209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 stated the lower energy levels were the weakest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move away from nucleus, they get str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219320" y="2895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 proposed an e- could jump between energy levels if i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ned or lost the right amount of energy to do 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600200" y="37339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right amount of energy needed to move the e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one level to another is called Qua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295280" y="44197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mount of energy an e- gains or loses not always the sa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it takes more energy to move e- in the lo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levels than the higher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Mechan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066680" y="1371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hrodinger respo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066680" y="1828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 exact path e-’s take around the nucleus, but there a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levels like in Bohr’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066680" y="2666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del determines how much energy an e- can hav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of finding the e- in various loc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06668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- move in orbitals also called atomic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066680" y="4267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ach energy level has sub-levels within it and each of tho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levels have their own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rbital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s_orbit.gif"/>
          <p:cNvPicPr/>
          <p:nvPr/>
        </p:nvPicPr>
        <p:blipFill>
          <a:blip r:embed="rId1"/>
          <a:stretch/>
        </p:blipFill>
        <p:spPr>
          <a:xfrm>
            <a:off x="1644480" y="1523880"/>
            <a:ext cx="105120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dxy_orbit.gif"/>
          <p:cNvPicPr/>
          <p:nvPr/>
        </p:nvPicPr>
        <p:blipFill>
          <a:blip r:embed="rId2"/>
          <a:stretch/>
        </p:blipFill>
        <p:spPr>
          <a:xfrm>
            <a:off x="1828800" y="3429000"/>
            <a:ext cx="8730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px_orbit.gif"/>
          <p:cNvPicPr/>
          <p:nvPr/>
        </p:nvPicPr>
        <p:blipFill>
          <a:blip r:embed="rId3"/>
          <a:stretch/>
        </p:blipFill>
        <p:spPr>
          <a:xfrm>
            <a:off x="1752480" y="2438280"/>
            <a:ext cx="874800" cy="838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281952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 –sphere sha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895480" y="2590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 – dumbbell sha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895480" y="35812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 – clover leaf sha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057400" y="43434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bital – no definite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4-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90720" y="13716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resher:  each energy level has a principal energy level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, etc) AND each level has the same number of sublevels as it has energy levels (see notes from last uni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762120" y="23623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fbau Principle: electrons occupy the orbitals of the lowes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first (figure 5.7 pg 13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aufbau.jpg"/>
          <p:cNvPicPr/>
          <p:nvPr/>
        </p:nvPicPr>
        <p:blipFill>
          <a:blip r:embed="rId1"/>
          <a:stretch/>
        </p:blipFill>
        <p:spPr>
          <a:xfrm>
            <a:off x="3124080" y="3048120"/>
            <a:ext cx="28195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guide 4-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04920" y="99072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aufbau diagram (principle) can be used to show how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s fill the orbitals of equal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one electron enters each orbital until all the orbit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 one electron with the same spin di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09480" y="2743200"/>
            <a:ext cx="83059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uli Exclusion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atomic orbital may describe at most two elec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 1 or 2 electrons can occupy an s orbital or a p orbital.  For 2 electrons to occupy the same orbital, they have must have opposite spins (or paired sp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n = property of electrons, may be thought of as clockwise and counter clockwise. (shown by arrow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5"/>
          <p:cNvSpPr/>
          <p:nvPr/>
        </p:nvSpPr>
        <p:spPr>
          <a:xfrm flipV="1">
            <a:off x="74674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76960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28600" y="53352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und’s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electrons occupy orbitals of the same energy in a way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kes the number of electrons with the same sp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as large as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2286000"/>
            <a:ext cx="8610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EX:  3 electrons occupy three orbitals of equal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electrons then pair up and fill each orbi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990720" y="3124080"/>
            <a:ext cx="1295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6172200" y="3124080"/>
            <a:ext cx="1295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657600" y="3124080"/>
            <a:ext cx="1295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 flipV="1">
            <a:off x="12952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1905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3962520" y="3352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49568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723888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53080" y="3352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02:28:44Z</dcterms:created>
  <dc:creator>jpak</dc:creator>
  <dc:description/>
  <dc:language>en-US</dc:language>
  <cp:lastModifiedBy>John Pakledinaz</cp:lastModifiedBy>
  <dcterms:modified xsi:type="dcterms:W3CDTF">2009-10-23T18:22:01Z</dcterms:modified>
  <cp:revision>20</cp:revision>
  <dc:subject/>
  <dc:title>Noteguide 4-2 continued</dc:title>
</cp:coreProperties>
</file>